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11.png" ContentType="image/png"/>
  <Override PartName="/ppt/media/image1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23.wmf" ContentType="image/x-wmf"/>
  <Override PartName="/ppt/media/image21.jpeg" ContentType="image/jpeg"/>
  <Override PartName="/ppt/media/image16.jpeg" ContentType="image/jpeg"/>
  <Override PartName="/ppt/media/image20.png" ContentType="image/png"/>
  <Override PartName="/ppt/media/image18.png" ContentType="image/png"/>
  <Override PartName="/ppt/media/image15.png" ContentType="image/png"/>
  <Override PartName="/ppt/media/image14.jpeg" ContentType="image/jpeg"/>
  <Override PartName="/ppt/media/image3.png" ContentType="image/png"/>
  <Override PartName="/ppt/media/image17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2.png" ContentType="image/png"/>
  <Override PartName="/ppt/media/image4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061AE-6B62-4CAF-99AF-8B5D89562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0209E-4884-47DB-AFE6-524C9558E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F9BBE-9D23-4708-9613-237A5526D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30E70-C72B-4BE9-87C4-1AC4C3688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E02AF-79CF-469B-872C-B6D5538FE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65B85-FB2C-495A-9933-50C3FE212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47CD0-11D9-4007-830A-740CD27F5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4B86D-35F4-4353-876A-CE10379D3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1285E-79FA-43DC-81B5-162569FB5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03A48-F358-4DE5-9373-22181F0BE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C5156-BE38-44F9-99D2-0D1981A9A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6A2F7-7BA6-4C94-84E7-1227020EA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7DF39-73C6-4912-9220-55D2D8DE1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07C13-221E-4098-A23D-B7F11C2D5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DFE3F-5F82-40AE-8EBD-B0445C54F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F52C2-4372-4AE5-BEE2-E3623093A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B5A5E-39B0-4392-9292-875B8A0EA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3233F7-501F-4F69-8F6E-84DC9B142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9FF9AF-AF99-4657-9590-20CF68EF1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D8B905-9828-4C3B-AA93-D6316E355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0CB86F-8532-408E-AADA-8A38E52CC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C1B015-3AD7-4846-B47F-44AD7C3C0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F590D-038F-4D41-BFAF-5856682E8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779FEA-8ADD-4C0E-BD4D-9D0245841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71AC5B-C335-4CC4-A97F-773ED7212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788DC2-BB29-4CB7-9024-7C9ADB123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A77913-D74E-4C03-ABFA-7D3228E08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362EB2-2F01-4504-A766-D9DD953FE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F96DAA-1F53-4FB7-8398-76A114B29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FBE755-EBE8-47CF-9CCF-3026DFE8E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AB40B9-B804-4F8F-BC88-4537823E1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20B00F-8EDA-4175-806E-3C98EE66B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8470AA-659D-464D-B20C-A17583309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3B843-9768-4AC4-9689-6CFA7F996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DF221F-9EF1-4A52-9AEA-A67372957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6C6D15-9FFB-4C32-AD1C-A88C8FBE4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B935D3-8344-4041-B9C0-4A0E5424A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DF02FE-462E-42EE-90A2-FEA99AAFF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259C6B-D289-4781-9F8D-C85BB5B47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1D0B24-156E-4879-92BC-BBAEA1B87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F5EDD6-4F9F-409D-8622-3836D99D4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323DC5-C4BD-4A92-A4C3-83BC86E1B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C0B7E0-0740-4285-B627-588DB3045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7D9905-D438-4E22-96B9-502A77819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42FF9-42C3-44EC-A4DD-439332473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4F169F-9F8C-412F-B310-4165A4479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D73183-945B-48E8-BF59-5E805D477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8BA137-5EA0-4245-9C61-84C320F4D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76C17A-7F8D-4362-94CB-25C640ECC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D24CDA-0195-473F-802B-06739D710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2DA161-1042-47A4-B81E-E743C4BB2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5BE301-2DA8-444F-822F-65FBF755F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0D9DDC-5040-4897-8F44-66E5406AB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9A71F2-B2ED-49E1-94DA-7178ADB2D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1E3814-7BC0-45F3-90AB-08DF14E41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0CB9F-EE45-49D7-86A6-7DC4B7849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1A73E0-2F6D-4D53-8A4C-97AEF03EC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0CD8E9-A95A-4126-8BFB-57F32365A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8E318F-F6DA-438C-97C5-F09AC4E9C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1643D7-B0DD-4944-A9BB-E47EDAF7D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6DE004-C560-4E3F-8017-EAE7A66C2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06789C-49A1-42ED-9C63-5F414A10F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EDAAE7-CB72-4EE2-9C7F-945D32F6C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3D1890-6DBA-4F19-92AE-A125D6D93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7EAF7D-CA39-40A9-8BE2-AD387109F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A55620-AD55-454D-9562-B5C0F9ABC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A8741-C357-48C5-8C8D-264906683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8F91B0-6C81-4E1E-85EE-1C4B0931B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546113-1BDC-4D6C-862B-65A1E9FA6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392A02-09F9-4308-A26E-BE90F9260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AA56E-42C7-4468-A9D9-D8BF31DCF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CC615-8DCA-4483-B539-9C1F7DD9B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0533F-217D-4076-86D2-CE3FA56444AF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Rectangle 8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Rectangle 10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7E162-01B9-48DF-A42D-378D3D3F27B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9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Rectangle 8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Rectangle 10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D081F-C9C7-422C-AAA0-EA6C2137216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5" name="Rectangle 8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6" name="Rectangle 10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AB080-6D64-4CBA-9666-9C2D2A10165E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Rectangle 8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1" name="Rectangle 10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dt" idx="13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 type="ftr" idx="14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 type="sldNum" idx="15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B73C9-C145-4E7E-8E25-7A566D8172AB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4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5" name="Rectangle 8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Rectangle 10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 type="dt" idx="16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 type="ftr" idx="17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 type="sldNum" idx="18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2AB22-0B13-4F87-A3AB-767B6F16643A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Picture 2" descr="http://purpleflames.yolasite.com/resources/7-violet-purple-flames-tm-1-500.jpg"/>
          <p:cNvPicPr/>
          <p:nvPr/>
        </p:nvPicPr>
        <p:blipFill>
          <a:blip r:embed="rId1"/>
          <a:stretch/>
        </p:blipFill>
        <p:spPr>
          <a:xfrm>
            <a:off x="0" y="0"/>
            <a:ext cx="9148680" cy="6858000"/>
          </a:xfrm>
          <a:prstGeom prst="rect">
            <a:avLst/>
          </a:prstGeom>
          <a:ln w="0">
            <a:noFill/>
          </a:ln>
        </p:spPr>
      </p:pic>
      <p:pic>
        <p:nvPicPr>
          <p:cNvPr id="269" name="Title 7" descr=""/>
          <p:cNvPicPr/>
          <p:nvPr/>
        </p:nvPicPr>
        <p:blipFill>
          <a:blip r:embed="rId2"/>
          <a:stretch/>
        </p:blipFill>
        <p:spPr>
          <a:xfrm>
            <a:off x="682560" y="371520"/>
            <a:ext cx="7875720" cy="3114720"/>
          </a:xfrm>
          <a:prstGeom prst="rect">
            <a:avLst/>
          </a:prstGeom>
          <a:ln w="0">
            <a:noFill/>
          </a:ln>
        </p:spPr>
      </p:pic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1447920" y="5715000"/>
            <a:ext cx="6400800" cy="990720"/>
          </a:xfrm>
          <a:prstGeom prst="rect">
            <a:avLst/>
          </a:prstGeom>
          <a:noFill/>
          <a:ln w="0">
            <a:noFill/>
          </a:ln>
        </p:spPr>
        <p:txBody>
          <a:bodyPr lIns="118800" rIns="45720" tIns="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rbel"/>
              </a:rPr>
              <a:t>By Charlie Solomon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Title 1" descr=""/>
          <p:cNvPicPr/>
          <p:nvPr/>
        </p:nvPicPr>
        <p:blipFill>
          <a:blip r:embed="rId1"/>
          <a:stretch/>
        </p:blipFill>
        <p:spPr>
          <a:xfrm>
            <a:off x="396720" y="30240"/>
            <a:ext cx="8375760" cy="1877760"/>
          </a:xfrm>
          <a:prstGeom prst="rect">
            <a:avLst/>
          </a:prstGeom>
          <a:ln w="0">
            <a:noFill/>
          </a:ln>
        </p:spPr>
      </p:pic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533520" y="5638320"/>
            <a:ext cx="8076960" cy="662040"/>
          </a:xfrm>
          <a:prstGeom prst="rect">
            <a:avLst/>
          </a:prstGeom>
          <a:noFill/>
          <a:ln w="0">
            <a:noFill/>
          </a:ln>
        </p:spPr>
        <p:txBody>
          <a:bodyPr lIns="118800" rIns="45720" tIns="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1998 NFC Championship 30-27 Loss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Vikings vs. Falcons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298" name="Picture 2" descr="http://sportsillustrated.cnn.com/football/nfl/1998/playoffs/news/1999/01/17/vikings_anderson/t1_anderson_ap_01.jpg"/>
          <p:cNvPicPr/>
          <p:nvPr/>
        </p:nvPicPr>
        <p:blipFill>
          <a:blip r:embed="rId2"/>
          <a:stretch/>
        </p:blipFill>
        <p:spPr>
          <a:xfrm>
            <a:off x="2743200" y="1143000"/>
            <a:ext cx="358128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Picture 2" descr="http://www.osovo.com/pics/crying/crying-babies06.jpg"/>
          <p:cNvPicPr/>
          <p:nvPr/>
        </p:nvPicPr>
        <p:blipFill>
          <a:blip r:embed="rId1"/>
          <a:stretch/>
        </p:blipFill>
        <p:spPr>
          <a:xfrm>
            <a:off x="2971800" y="1981080"/>
            <a:ext cx="2971800" cy="297180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3" descr="C:\Documents and Settings\solomons\Local Settings\Temporary Internet Files\Content.IE5\D61WU4DR\MC910217125[1].wmf"/>
          <p:cNvPicPr/>
          <p:nvPr/>
        </p:nvPicPr>
        <p:blipFill>
          <a:blip r:embed="rId2"/>
          <a:stretch/>
        </p:blipFill>
        <p:spPr>
          <a:xfrm>
            <a:off x="3200400" y="152280"/>
            <a:ext cx="2954160" cy="2895840"/>
          </a:xfrm>
          <a:prstGeom prst="rect">
            <a:avLst/>
          </a:prstGeom>
          <a:ln w="0">
            <a:noFill/>
          </a:ln>
        </p:spPr>
      </p:pic>
      <p:sp>
        <p:nvSpPr>
          <p:cNvPr id="301" name="TextBox 5"/>
          <p:cNvSpPr/>
          <p:nvPr/>
        </p:nvSpPr>
        <p:spPr>
          <a:xfrm>
            <a:off x="2590920" y="5562720"/>
            <a:ext cx="373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The End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Title 3" descr=""/>
          <p:cNvPicPr/>
          <p:nvPr/>
        </p:nvPicPr>
        <p:blipFill>
          <a:blip r:embed="rId1"/>
          <a:stretch/>
        </p:blipFill>
        <p:spPr>
          <a:xfrm>
            <a:off x="396720" y="30240"/>
            <a:ext cx="8070840" cy="1676160"/>
          </a:xfrm>
          <a:prstGeom prst="rect">
            <a:avLst/>
          </a:prstGeom>
          <a:ln w="0">
            <a:noFill/>
          </a:ln>
        </p:spPr>
      </p:pic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1371600" y="571464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lIns="118800" rIns="45720" tIns="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Super Bowl IV 23-7 Loss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Vikings vs. Chiefs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273" name="Picture 2" descr="http://www.offworldvision.com/web/afl2root/pages/champs/jpg/sb4_kcd.jpg"/>
          <p:cNvPicPr/>
          <p:nvPr/>
        </p:nvPicPr>
        <p:blipFill>
          <a:blip r:embed="rId2"/>
          <a:stretch/>
        </p:blipFill>
        <p:spPr>
          <a:xfrm>
            <a:off x="2590920" y="1600200"/>
            <a:ext cx="404784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Title 1" descr=""/>
          <p:cNvPicPr/>
          <p:nvPr/>
        </p:nvPicPr>
        <p:blipFill>
          <a:blip r:embed="rId1"/>
          <a:stretch/>
        </p:blipFill>
        <p:spPr>
          <a:xfrm>
            <a:off x="396720" y="30240"/>
            <a:ext cx="8375760" cy="1877760"/>
          </a:xfrm>
          <a:prstGeom prst="rect">
            <a:avLst/>
          </a:prstGeom>
          <a:ln w="0">
            <a:noFill/>
          </a:ln>
        </p:spPr>
      </p:pic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533520" y="563832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118800" rIns="45720" tIns="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Super Bowl VIII 24-17 Loss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Vikings vs. Dolphins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276" name="Picture 2" descr="http://www.netbrawl.com/uploads/efcc24e80b023ed328a5758b586f3f98.jpg"/>
          <p:cNvPicPr/>
          <p:nvPr/>
        </p:nvPicPr>
        <p:blipFill>
          <a:blip r:embed="rId2"/>
          <a:stretch/>
        </p:blipFill>
        <p:spPr>
          <a:xfrm>
            <a:off x="2438280" y="1295280"/>
            <a:ext cx="4373640" cy="31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Title 1" descr=""/>
          <p:cNvPicPr/>
          <p:nvPr/>
        </p:nvPicPr>
        <p:blipFill>
          <a:blip r:embed="rId1"/>
          <a:stretch/>
        </p:blipFill>
        <p:spPr>
          <a:xfrm>
            <a:off x="396720" y="30240"/>
            <a:ext cx="8375760" cy="1877760"/>
          </a:xfrm>
          <a:prstGeom prst="rect">
            <a:avLst/>
          </a:prstGeom>
          <a:ln w="0">
            <a:noFill/>
          </a:ln>
        </p:spPr>
      </p:pic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533520" y="5638680"/>
            <a:ext cx="8076960" cy="609840"/>
          </a:xfrm>
          <a:prstGeom prst="rect">
            <a:avLst/>
          </a:prstGeom>
          <a:noFill/>
          <a:ln w="0">
            <a:noFill/>
          </a:ln>
        </p:spPr>
        <p:txBody>
          <a:bodyPr lIns="118800" rIns="45720" tIns="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Super Bowl IX 16-6 Loss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Vikings vs. Steelers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279" name="Picture 2" descr="http://i.cdn.turner.com/si/multimedia/photo_gallery/0901/steelers.superbowl.highlights/images/lambert-ham.jpg"/>
          <p:cNvPicPr/>
          <p:nvPr/>
        </p:nvPicPr>
        <p:blipFill>
          <a:blip r:embed="rId2"/>
          <a:stretch/>
        </p:blipFill>
        <p:spPr>
          <a:xfrm>
            <a:off x="2514600" y="1143000"/>
            <a:ext cx="4038480" cy="35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Title 3" descr=""/>
          <p:cNvPicPr/>
          <p:nvPr/>
        </p:nvPicPr>
        <p:blipFill>
          <a:blip r:embed="rId1"/>
          <a:stretch/>
        </p:blipFill>
        <p:spPr>
          <a:xfrm>
            <a:off x="396720" y="30240"/>
            <a:ext cx="8375760" cy="18777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subTitle"/>
          </p:nvPr>
        </p:nvSpPr>
        <p:spPr>
          <a:xfrm>
            <a:off x="533520" y="5714640"/>
            <a:ext cx="8076960" cy="609480"/>
          </a:xfrm>
          <a:prstGeom prst="rect">
            <a:avLst/>
          </a:prstGeom>
          <a:noFill/>
          <a:ln w="0">
            <a:noFill/>
          </a:ln>
        </p:spPr>
        <p:txBody>
          <a:bodyPr lIns="118800" rIns="45720" tIns="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Super Bowl XI 32-14 Loss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Vikings vs. Raiders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282" name="Picture 2" descr="http://prod.static.raiders.clubs.nfl.com/assets/images/history/MarkvanEeghenSB1.jpg"/>
          <p:cNvPicPr/>
          <p:nvPr/>
        </p:nvPicPr>
        <p:blipFill>
          <a:blip r:embed="rId2"/>
          <a:stretch/>
        </p:blipFill>
        <p:spPr>
          <a:xfrm>
            <a:off x="1981080" y="1295280"/>
            <a:ext cx="5238720" cy="31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Title 3" descr=""/>
          <p:cNvPicPr/>
          <p:nvPr/>
        </p:nvPicPr>
        <p:blipFill>
          <a:blip r:embed="rId1"/>
          <a:stretch/>
        </p:blipFill>
        <p:spPr>
          <a:xfrm>
            <a:off x="396720" y="30240"/>
            <a:ext cx="8375760" cy="1877760"/>
          </a:xfrm>
          <a:prstGeom prst="rect">
            <a:avLst/>
          </a:prstGeom>
          <a:ln w="0">
            <a:noFill/>
          </a:ln>
        </p:spPr>
      </p:pic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533520" y="5714640"/>
            <a:ext cx="8076960" cy="609480"/>
          </a:xfrm>
          <a:prstGeom prst="rect">
            <a:avLst/>
          </a:prstGeom>
          <a:noFill/>
          <a:ln w="0">
            <a:noFill/>
          </a:ln>
        </p:spPr>
        <p:txBody>
          <a:bodyPr lIns="118800" rIns="45720" tIns="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19-17 Loss in 2003 to miss Playoffs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Vikings vs. Cardinals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285" name="Picture 2" descr="http://www.parkerliveonline.com/wp-content/uploads/2011/08/Arizona-Cardinals-Logo.jpg"/>
          <p:cNvPicPr/>
          <p:nvPr/>
        </p:nvPicPr>
        <p:blipFill>
          <a:blip r:embed="rId2"/>
          <a:stretch/>
        </p:blipFill>
        <p:spPr>
          <a:xfrm>
            <a:off x="2209680" y="1143000"/>
            <a:ext cx="467388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396720" y="30240"/>
            <a:ext cx="8375760" cy="1877760"/>
          </a:xfrm>
          <a:prstGeom prst="rect">
            <a:avLst/>
          </a:prstGeom>
          <a:ln w="0">
            <a:noFill/>
          </a:ln>
        </p:spPr>
      </p:pic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533520" y="5638320"/>
            <a:ext cx="8076960" cy="662040"/>
          </a:xfrm>
          <a:prstGeom prst="rect">
            <a:avLst/>
          </a:prstGeom>
          <a:noFill/>
          <a:ln w="0">
            <a:noFill/>
          </a:ln>
        </p:spPr>
        <p:txBody>
          <a:bodyPr lIns="118800" rIns="45720" tIns="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2000 NFC Championship 41-0 Loss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Vikings vs. Giants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288" name="Picture 2" descr="http://scm-l3.technorati.com/10/08/24/16825/New-York-Giants.jpg"/>
          <p:cNvPicPr/>
          <p:nvPr/>
        </p:nvPicPr>
        <p:blipFill>
          <a:blip r:embed="rId2"/>
          <a:stretch/>
        </p:blipFill>
        <p:spPr>
          <a:xfrm>
            <a:off x="2666880" y="1066680"/>
            <a:ext cx="36576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396720" y="30240"/>
            <a:ext cx="8375760" cy="1877760"/>
          </a:xfrm>
          <a:prstGeom prst="rect">
            <a:avLst/>
          </a:prstGeom>
          <a:ln w="0">
            <a:noFill/>
          </a:ln>
        </p:spPr>
      </p:pic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533520" y="5638320"/>
            <a:ext cx="8076960" cy="662040"/>
          </a:xfrm>
          <a:prstGeom prst="rect">
            <a:avLst/>
          </a:prstGeom>
          <a:noFill/>
          <a:ln w="0">
            <a:noFill/>
          </a:ln>
        </p:spPr>
        <p:txBody>
          <a:bodyPr lIns="118800" rIns="45720" tIns="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2009 NFC Championship 27-24 Loss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Vikings vs. Saints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291" name="Picture 2" descr="http://eorsini.files.wordpress.com/2010/02/favre-vikings2.jpg"/>
          <p:cNvPicPr/>
          <p:nvPr/>
        </p:nvPicPr>
        <p:blipFill>
          <a:blip r:embed="rId2"/>
          <a:stretch/>
        </p:blipFill>
        <p:spPr>
          <a:xfrm>
            <a:off x="4191120" y="1905120"/>
            <a:ext cx="3709800" cy="304776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4" descr="http://images.publicradio.org/content/2010/01/24/20100124_saintswin_33.jpg"/>
          <p:cNvPicPr/>
          <p:nvPr/>
        </p:nvPicPr>
        <p:blipFill>
          <a:blip r:embed="rId3"/>
          <a:stretch/>
        </p:blipFill>
        <p:spPr>
          <a:xfrm>
            <a:off x="1676520" y="1060560"/>
            <a:ext cx="3581280" cy="28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Title 1" descr=""/>
          <p:cNvPicPr/>
          <p:nvPr/>
        </p:nvPicPr>
        <p:blipFill>
          <a:blip r:embed="rId1"/>
          <a:stretch/>
        </p:blipFill>
        <p:spPr>
          <a:xfrm>
            <a:off x="396720" y="30240"/>
            <a:ext cx="8375760" cy="1877760"/>
          </a:xfrm>
          <a:prstGeom prst="rect">
            <a:avLst/>
          </a:prstGeom>
          <a:ln w="0">
            <a:noFill/>
          </a:ln>
        </p:spPr>
      </p:pic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33520" y="5638320"/>
            <a:ext cx="8076960" cy="662040"/>
          </a:xfrm>
          <a:prstGeom prst="rect">
            <a:avLst/>
          </a:prstGeom>
          <a:noFill/>
          <a:ln w="0">
            <a:noFill/>
          </a:ln>
        </p:spPr>
        <p:txBody>
          <a:bodyPr lIns="118800" rIns="45720" tIns="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Roger Staubach: THE Hail Mary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Vikings vs. Cowboys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295" name="Picture 2" descr="http://taylorblitztimes.files.wordpress.com/2011/07/drewpearson5.jpg?w=1024&amp;h=673"/>
          <p:cNvPicPr/>
          <p:nvPr/>
        </p:nvPicPr>
        <p:blipFill>
          <a:blip r:embed="rId2"/>
          <a:stretch/>
        </p:blipFill>
        <p:spPr>
          <a:xfrm>
            <a:off x="1905120" y="1143000"/>
            <a:ext cx="5333760" cy="350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6T03:09:03Z</dcterms:created>
  <dc:creator>solomons</dc:creator>
  <dc:description/>
  <dc:language>en-US</dc:language>
  <cp:lastModifiedBy>solomons</cp:lastModifiedBy>
  <dcterms:modified xsi:type="dcterms:W3CDTF">2011-09-16T04:47:05Z</dcterms:modified>
  <cp:revision>11</cp:revision>
  <dc:subject/>
  <dc:title>Nine Layers of Minnesota Vikings HELL</dc:title>
</cp:coreProperties>
</file>